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F039BA4-D785-4749-BC1F-908C35AA96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3CB236-9859-4A00-8EEC-07DEF7F600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BE8569-DBFE-4A18-9B3C-8F6A64AA85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1A129B-AA31-4429-A7C9-2840BE59A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6989A1-8229-4B76-8C1B-38C78C03E18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58A370-42D6-4D11-BD0F-6CA7A4576D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FBBE6-BFC4-4ADC-863D-14AAFA261CA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1BD49E4-3549-487B-AEE0-C4411AD96B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CB5F8D-AF0B-4BB4-990A-EEBD020766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6886219-B02C-464D-ACCD-17204817F6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F31789-87BB-4236-A907-5A2867954C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D302E2-7933-4E47-94EA-17DCF02DBD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27C7E6-6D62-4112-9F9F-F1927DB8D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248BDD-5964-4F0E-9A9E-268A646EE0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A2711E-8441-45E5-839F-8ED0185357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4AAB979-7760-4225-A7B3-7E6A2F0DCC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B4BC7AB-F29B-4ECB-993D-8AC552FF024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7DCA5-8DD0-4505-8C72-FB06D1A66F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F354BE-014D-48BE-84A2-778D8616DE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71529A-71FF-49F2-98BA-C2308CFF65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1C0818-A5B3-41F3-B0D9-9C20F59735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5AF0A2-E420-4147-9154-40F57F7098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300046-00CE-4A59-8890-782C150224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02830E-3580-41FC-9E64-70D7E6DC4E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CA05A-6527-4522-8CFF-78B9494E97B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205DA-4666-4FD5-A195-2A0DA85DD23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24C5D77-10CE-48BC-843C-9820F4D2B36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AF0E6DB-B912-49CB-AFEC-9129083CB53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232C9-795D-4BBE-8638-29D62A5238D0}"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DF311A-DCBD-4075-B567-D6A6F00CFF1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2E92FE-CCD1-4706-9211-BA62CB42D1D0}"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09CA0-0B44-49C6-B987-5A8504ADE4B8}"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E9B19-97F8-49BC-8EBD-7FE244E86BD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2641D7-0D24-45DB-AEBD-FCAACE55556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6B875-2161-47CC-BE1A-9CCCCE42DD75}"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786250-5647-4F40-B4FE-11085387747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4E6D5-6833-48BA-8731-346C471DE2E5}"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7A9B2-C212-4C6A-A2C1-97C5DB638DA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24D952-04F7-42E2-B553-2E86F6DEB64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DDD001-4E02-4370-92C5-FEAFF8A0657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76214-EFD1-4319-BB3C-ED00BAE9C9D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BABDC-BF60-4C40-A4CA-A7F6F2D27661}"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67FBB9-F195-4272-BF91-FCB621385E0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0AEBF-E2E1-4986-AF81-1F3A7D7D328A}"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5F370A-9A34-4B35-9BCD-3C2E289D600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14C5C-3146-4A85-B88C-B5FA01B4DC1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4A430B-7879-48E9-B5B1-259718EDDD0A}"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15527-3627-4B84-B42A-BD9BD8D517E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F429A-F5FA-46AE-BAEC-2763DA90FD5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379419-88E0-4E3B-B829-3CAA089FF453}"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E5E57-3771-473D-B30E-3EB1C4BAD6B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D336B-F4A8-4BE5-8F50-B29F3770C475}"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EEC48-84C2-43F0-995F-02BB4443A7E0}"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E708FD1-F436-4A0F-ACEB-D4A8BBECCBB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9971F0-BA80-48B6-8F64-BE62AF7DEAA1}"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D1AD1-C7E3-45D7-BE83-3B25446842D4}"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56BA6-6CD0-467A-8DB8-83187C07D56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DCD09-23A6-47B2-9D1F-047DD08A1BD0}"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39DAF9-30B5-4400-A86F-2C53B033A29C}"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EAA60-11F5-4D2D-9D8A-545B6D578E2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7B5A6A-6CAC-4FE6-9E6D-EC5DC01E461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71821B-840D-45C2-8241-1C3FA07DBA8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79DF6-B2B5-43A9-BB42-3E50CC1FC4B5}"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70A81-8A1C-412E-951E-249233EB99CC}"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6BEBA-26E1-4621-9E28-EFA7F3ABEF3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B29233-9157-4395-95D0-D64C06632E9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C4DEB-8E1C-49BB-8311-05E149499EF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B894F-D2C8-4044-8D64-3DA9B2FCB5C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9BDCE-B492-4659-B4AE-8A2FD768FEE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94ACF0-5C12-473A-872C-6EA665F4734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5B762-8B2C-49F4-8B1B-2738645A0576}"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AB3A9-4A50-4134-95B0-5C1F22A1167B}"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74DBD-573A-4A97-BF21-CE1C18DD9D6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EA015-7B17-40A5-8F2B-269177F0D2E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69A19FD-7256-4F3B-BF44-D231C0BDD8C6}"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F1BC4-F268-4E37-BF17-E099F4ACA2C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3CE70-D607-4FAA-8A3C-23610A68122F}"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3F8FA95-6D9E-400F-B3F6-6A497E8E8E8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978EDA-CFF5-4C2C-BBEE-10F8E0E75A1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B55BB-7694-40D9-B709-AC181A467CD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F82EBA-B178-402D-9365-4CA9DC6F778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8DC329-D9E0-48F0-9BA7-D8841EAEA1B0}"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9F686-5564-484A-A4D8-9D2616383ED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1C3B3-C433-4DB9-B88E-AAD30EF84C4A}"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C0AF9-CC9B-4493-9527-56C2CCC2368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993CBD6-C80C-401F-AD85-2084922AE34A}"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AF0B5-2BC7-46FD-827C-94862D9A13B0}"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56E15-0D5D-4FCB-B8B2-5338EB29796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32820B-688E-43BA-A7A4-7C3D458A5DF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15372A-9518-405F-A231-487D7A7C4060}"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090CC3-9D7F-4303-BC58-C8078006903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E503CD-0F92-4FF8-B5A0-CB9EB680EC74}"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7F25B-7155-4012-AD16-4DAC97A39E8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66807F-15A7-4042-9FD5-597DEFCD44B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10A6E-FF52-4A76-B5BD-DA701131E09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E31519-5B7C-4DB9-A238-093CAE8957E3}"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471367-AD1C-41C7-831A-D22B9E33779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2C509-3A1F-4519-A377-EBECE95F2A77}"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2F5B8-1F83-4E4D-AC4A-4E9A294B7A4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30AD0-B310-4FFB-9299-5E5FAF7C3BB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D6606-A469-4F66-9F7A-CCAB6AE9F53E}"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5D05F-BE70-4BF9-856F-8881FC8A45E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924C26-F590-4208-A09B-89059C0E2F7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F56B5D-B93C-4975-B1A3-7989755AD849}"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50430-5C55-4642-A936-717C195074E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0CE1ED-F655-41CB-ACF1-B927381D9E4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B9A809-BA5D-42BB-9A55-358B567DA51A}"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78469D4-200C-4C04-8EB9-94EE896C66F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629345-5268-417B-A311-2DD9BA9E055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F3CABF-687C-4B25-9160-309602440EA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DBE93-4DC3-4816-8E66-ACE5244697D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94269-35E2-4A5C-8FC7-E54B301F77D1}"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B1922F-5CDF-402B-8D27-834AD1F616B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F913A4-96D6-4B07-8EF7-62284615869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2D6A95-CB03-46E7-9ABC-CCE1F4293A2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A2551E-0939-4AC7-8A88-AC205A89816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5CA92B-1578-4377-B8F7-8B82D13353F4}"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B35F0-172C-491F-8DA0-71128FBC8B4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627833-15FD-4508-8C0C-8570C93F0D5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0F5320-1328-4BF1-959C-6C17E2B63AF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8175B-CD5E-441F-97F9-279295C34DC4}"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F6D075-D682-410B-958A-8C92B1C80615}"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5AA94-93D0-48B2-B4AD-5FE7E246BE14}"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AC1A3-66FB-4973-9CCD-009829E7D4D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4986EC-FCA8-4C29-9F38-4AC609D3052E}"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26223AF-D751-45CC-BA92-BA60DEBAD81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23F78B-5721-4B95-A6E3-A02318B8C32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8D478-492D-4828-AF83-876121866A79}"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30589-D5C1-4F18-BF3C-2BAD7975C22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447258-E21D-47F9-AEF2-1D1E58D35ED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D5523-504E-482D-99F6-995142AA068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555214-F812-4E25-ADDB-EE0B08EA4EF6}"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5DD51-7C42-482D-9DCE-337DE449EB1D}"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E745C-5C5F-494A-A762-1B5209F80EF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06A6B5-CE2B-4A90-8810-0AA281595210}"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03C8D-DFEF-4779-9F15-D6FCB3038F5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CFA789-8742-45BA-BF6F-5D9D1828306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2754C-AC1C-4E06-A6E3-92F0F62C3FD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94F71-4193-40CC-B7A3-4F64C6E8A6B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C73260-7087-4459-BE8A-EAAE83090C22}"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84EA4A-7C1F-4D47-B7D9-F0E961F7D61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5E45E6-FB91-45C6-9B02-CDCD012B921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78F6A-CCFF-4425-A3F0-F79D02749E3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358642-3FCD-450D-8990-FB79511BE38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F4812F-DD90-48BD-B311-20D2E580B20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72B6E-0F31-4CF1-9C16-0031849803F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96212B-9190-4FDC-AF16-6B8829CAE86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1943D-F47A-49B8-8C6E-76B42A4EB90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BEA98-F1A1-4894-9A01-1E9D267CB869}"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8AFF7-6099-4538-A95D-7E33A93C09F4}"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188B24-9056-426D-9CB8-ECD93C3A166F}"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DDE246-FBF9-4F3F-9FAF-F579B4C9A7EA}"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BD8EF-8CE7-42C0-811C-561BF98D144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4AF3933-5A88-46F6-90DA-AEFC3FBA1122}"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058C2F-4F6C-4D5E-BCAE-F9B1BDE7ADB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1DD72-5E97-4F9D-9CC3-4EF68009826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56224-EA26-4238-AF7D-8A2C06CD0E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99C5D-835C-4A81-B47B-D2DCFD97A72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E685E4-300C-445A-81A1-B17DF54E7B3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471A9-B6DC-44CD-B3C5-D5A0A4C179B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824E7B-4FDD-466F-8729-109F6C990C1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408E3-D50E-42DF-8273-8C3B37E8C9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CEBDA-6DFD-4257-AE78-A799474C71A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27ED45-E639-40B4-A22E-0130AE6C4358}"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97E4D-4E4D-4B7C-BE6F-C34A87D373B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EDD64-31A9-4636-B041-A34FC8AC0FE4}"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F5FD7-A038-4A4B-9FC9-C432D5EBC1B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481B8-992D-4AE1-A241-C4F9FFA87DA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68F79-2D70-44EC-8AA4-C739926C8BE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54BEF7-3652-4835-B6CE-2171A744FC41}"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ECD91-07BD-42EA-BB93-8CB1764CBC0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2F06BF-FF75-4D47-90D5-6F3D1A3663D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5FFEA-56EA-477B-A1CE-9869A8EC99BC}"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E1632-D966-4C89-9006-D3082D2EC215}"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C1C0EA-37A7-4C14-A0EB-8E724DFC5F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ED322C-F67A-4FD6-927A-524FF972264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1BDCED-9B08-4E56-9D6C-04E330C2976E}"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F0F02B-C156-4E19-8B59-E40125D1F5E5}"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DAA29-658E-4641-A04F-1748B0734E9B}"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0E6A0F-DE4A-4774-9247-A11018FA9D7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B8187-7A36-4719-BED4-341590589D5D}"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7F513F-AA93-4E78-BC33-441A8423960E}"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848FE1-0934-46C0-B14D-D9EFEA6CFF98}"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FB5F95-36B0-45AB-B677-1B753F739F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040B7-74E7-4E86-8178-60B9CD9CD7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00A19-E37E-4CB1-B014-E8CDBDEFC84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9E8C3-2D6E-4437-A459-E97178F6A0B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775AE5-404A-4B4C-B613-FBA4DAD1399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404BE-8BEB-464D-A126-0C9F57CD948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7AFF7-C069-4DCB-A90A-0568309F78F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49DC0-A172-4E5D-B3D4-E97DAD0005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17A393-6776-4502-ADDC-6C499CDBF55F}"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BA327-A155-44DC-BF7C-BD7FFDE4C5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557DDC-56C6-4A8D-9B5E-DBA8B12E59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705BD4-8E79-4E37-AE5D-49FCF1894636}"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99903-3944-4827-8162-CC5562EF2E1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E076C-FC96-4623-8000-A018B5F2BF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99C93-61BE-4685-99E4-AE8F415C581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551622-0430-4AA2-9F2B-23D1AFBE1F7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1C32FC-CFB9-4ECA-9E17-C3648112C9F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68F1F1-4064-4AC1-B72E-8D6FB636EAA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9A83A88-E0D5-4716-B9E6-56FAFBB27AC5}"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90919-727E-40E9-8F07-A9E2D36078D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2422B-6F42-49D2-921F-451EE049837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E96EA-5D73-4B87-8A15-17D4E72BA50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3F366-A102-48B0-924B-012AAC3401D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44F299-E9E9-40EA-A3B1-4FB0A9D7FD0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DD276E-3697-4231-BC1C-65BE1A6C4C3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E95C3-A336-418D-B413-75C43533370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31785-AC9D-42F8-B2CD-1CE9F2E0F11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49AB81-599B-46FF-8277-2259AF1B9235}"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CCD7F-8AB0-4B05-84E6-AA471F7A465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29FB7-5843-4CE3-9F46-1ABEA321B0D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911E9-6A89-4E8E-B58B-B1FFCB41CFBD}"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CD4DBF-7F02-451A-A5D1-3AF5C4EF64DF}"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2DF8E-49E3-4860-B352-8AC1A0F91A51}"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CFD64A-9BAA-45FE-8EE3-712E2DFE0D9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3657BF-99BB-4E33-81DD-6B38E285766E}"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B8DE7-00CC-4D31-9368-F0FE9C80DFF2}"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C180D-B891-4FA9-BF23-FD485B9493D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837F5-5E9F-42FF-8D09-D1A345BEE3E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736551-16AA-4F2E-868A-91E90D8F3BA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1DDB3-2614-4634-BCF8-91D9E1CA59B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EF4729-639A-42A0-A451-8387850DDBC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D57D5-8F2B-47F0-B495-C020A38EA40C}"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99C32D-1445-4B35-8B9A-7904AF3BDA11}"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91F47-D55F-433D-80F2-120EBCA4CCD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A8AB25-19EE-467D-92CD-44DEC08935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C6F46A-062B-4F3B-A3B4-13D9A40143B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981C1-5805-418A-B05B-21253511307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4C050F-F6B2-4AED-B984-0F45FEB1269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AAC063-516A-4D2D-B8CE-553B405071CC}"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0CA12-9D4F-4761-9F98-BEEF831DA28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6E007-F5DB-4BC7-9601-16F47FB57623}"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2E4BDA-6226-45DF-B367-62B2B64354A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854E9-2323-4F85-9E70-8144CC31F09C}"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A22AA-9EE4-441A-A34F-230D9A66C0E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C9D902-2510-4AC0-9924-DE057ED25072}"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44C7C-0D8E-486B-93D4-8A773A4547B3}"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