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27547"/>
        <c:axId val="6851148"/>
      </c:barChart>
      <c:catAx>
        <c:axId val="6852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148"/>
        <c:crosses val="autoZero"/>
        <c:auto val="1"/>
        <c:lblAlgn val="ctr"/>
        <c:lblOffset val="100"/>
        <c:noMultiLvlLbl val="0"/>
      </c:catAx>
      <c:valAx>
        <c:axId val="6851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2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B71-D38A-49A1-9684-444237F6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C3C-1752-48CC-B445-B49E314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057-E189-4238-A5C8-85A80A63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E62-22E2-46AD-B6EB-ACF1738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BF5-03ED-4FA4-9B12-489CFA3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2C9-4755-4860-BA85-DCEDE9E4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17D-5FBA-4043-B6DE-EA06280B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75C-5EA7-47D2-87ED-3331B414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467-7236-4A7B-BFBA-6EFBFCB7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F06-6F74-4F98-A275-AA0FE893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08B-70F1-4BDA-A3F1-ADC2C1D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803-826C-4175-8176-5451C79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0CD40-4471-46DA-959E-08441F7BE8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