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77258"/>
        <c:axId val="83656803"/>
      </c:barChart>
      <c:catAx>
        <c:axId val="69377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6803"/>
        <c:crosses val="autoZero"/>
        <c:auto val="1"/>
        <c:lblAlgn val="ctr"/>
        <c:lblOffset val="100"/>
        <c:noMultiLvlLbl val="0"/>
      </c:catAx>
      <c:valAx>
        <c:axId val="83656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7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EEF-1DA3-4781-BB76-47BFCD1F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524-5F08-4E38-8BA6-668EC041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635-B780-4E88-AD39-554F241C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F0-29A9-4465-9346-7021877F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6B6-850D-46AF-ACC7-846104C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05D-E91C-45E8-B95B-F41BB4A3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4BD-0549-4E0D-8969-FDC2059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756-28CF-4236-BEA4-5DF80DD3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190-B880-4D69-A824-A9BB8572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C10-5952-4EC8-B315-7FB4A3C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997-DB4F-4098-8015-83D4869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B4F-9C55-4BE7-917A-5E7D588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2EE83-4DFA-4C27-BEF2-A3B3F385A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