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12300"/>
        <c:axId val="82443133"/>
      </c:barChart>
      <c:catAx>
        <c:axId val="76412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43133"/>
        <c:crosses val="autoZero"/>
        <c:auto val="1"/>
        <c:lblAlgn val="ctr"/>
        <c:lblOffset val="100"/>
        <c:noMultiLvlLbl val="0"/>
      </c:catAx>
      <c:valAx>
        <c:axId val="82443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12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C5C-FC3E-4F21-92D3-956BFC44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5C4-13A8-43D7-A3A4-0D7558C1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FA4B-F52B-47C3-A6F9-BC740E7C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109-4CA6-4D18-AB92-EDBB2AB8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1F3-8B91-4B88-9966-1ABE5C12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41C-9543-4762-B9DE-0C9B662F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E5E-C66D-403F-B9B7-9293BD63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D98-17F7-470B-BD8F-532CEAF6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9AC-108B-44CA-A77E-092AA744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E38-31B7-4C95-9267-6BB2AC49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CBF-7C34-4CCE-9C1C-CF071B05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F93-0528-4D21-9DBE-2E969D6D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80A16-D297-426A-AFC3-4D44128E8C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