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74399"/>
        <c:axId val="5860546"/>
      </c:barChart>
      <c:catAx>
        <c:axId val="24274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0546"/>
        <c:crosses val="autoZero"/>
        <c:auto val="1"/>
        <c:lblAlgn val="ctr"/>
        <c:lblOffset val="100"/>
        <c:noMultiLvlLbl val="0"/>
      </c:catAx>
      <c:valAx>
        <c:axId val="5860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74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C71-0528-439B-B0BE-1BE3555A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BCE-6D24-42DA-9B85-B85988F0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A66-4F13-4BAA-AD3C-B2556803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C11-4FB0-428D-9F53-FE587826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289-2FAD-4B98-B589-3FC59AA7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B61-53BA-455D-BA22-098F0432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D41-113E-481C-A633-6EF27430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D23-52A2-4F65-86DD-30BC05EC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866-C37D-4ACC-86CC-BD9F4F54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FBC-269C-4CE4-9306-D850E8D2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977-EE0D-48C6-827A-61072DE3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197-4556-4C26-A326-4126ED80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B884B-D61A-493E-AF65-C9740C3DA4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