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74291"/>
        <c:axId val="49315269"/>
      </c:barChart>
      <c:catAx>
        <c:axId val="86874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15269"/>
        <c:crosses val="autoZero"/>
        <c:auto val="1"/>
        <c:lblAlgn val="ctr"/>
        <c:lblOffset val="100"/>
        <c:noMultiLvlLbl val="0"/>
      </c:catAx>
      <c:valAx>
        <c:axId val="49315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74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8BB-DEA1-4DEE-BB45-5E7031EB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D56-0E28-4E53-9C2D-86949B3B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FC8-125D-488B-96A2-AED8F8EB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F4E-59AF-461A-B8F0-BB9ABCFA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FEA-3E8A-4727-A441-4F864F40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D71-696E-464A-9055-DE46D938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906-4872-469D-9F8F-44CDDD78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31B-F4E8-4D5A-A537-5E4D80B0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DE6-6346-4549-976E-E3FD0437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E47-7C20-415B-B429-D4CB351F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244-DB5A-4C9D-B5FD-8392B33A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1E1-9E3C-4423-BF07-F7488073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BBABB-4410-48E0-B47F-C914ED0EDC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