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788338"/>
        <c:axId val="283269"/>
      </c:barChart>
      <c:catAx>
        <c:axId val="427883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3269"/>
        <c:crosses val="autoZero"/>
        <c:auto val="1"/>
        <c:lblAlgn val="ctr"/>
        <c:lblOffset val="100"/>
        <c:noMultiLvlLbl val="0"/>
      </c:catAx>
      <c:valAx>
        <c:axId val="2832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7883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68BA-D728-48B1-AA3B-0781E81F3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CD79-3B72-40D0-BED2-619EE9658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BAB0-F8EA-47EA-AF16-9C47C341D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3DF3-80B1-4AF2-8465-E39D66BB5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A6D6-A801-4FE0-A0E1-2C5EEC649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F3C3-62FE-4E1D-9003-136430B76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A77F-2DF5-4034-AE92-B4EAAE1B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7EAE-2C1F-4CE0-901E-EDF5727D0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53DC-F9C2-4647-89A1-01A5A7F3A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9DB0-E801-42FA-8E88-18C4DD2F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1A29-EBEA-456A-AA30-D8B789BA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6D83-8A5F-4087-B77A-6C334371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374B31-EE19-44E4-9F57-49137B79014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