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17824"/>
        <c:axId val="68533751"/>
      </c:barChart>
      <c:catAx>
        <c:axId val="73717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3751"/>
        <c:crosses val="autoZero"/>
        <c:auto val="1"/>
        <c:lblAlgn val="ctr"/>
        <c:lblOffset val="100"/>
        <c:noMultiLvlLbl val="0"/>
      </c:catAx>
      <c:valAx>
        <c:axId val="68533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17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4A7-FCA2-4440-8FC1-2D4AD864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236-D880-4D9C-96FF-4EB2DDC9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7C9-A8E7-4170-859C-4AA3A905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FE8-FD86-470A-A96E-5C282B17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1BF-E4C0-4374-BAE2-B4EEAF9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794-F88D-4190-9A0F-6A902CC2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102-1B36-40CA-8A36-CE097D79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A82-CDC7-45D8-8CDE-E16F7A51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F14-3F8C-433D-949D-FCD06C81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99B-A3E8-4E42-8C6A-CFBDFDA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F4A-9800-4433-BED1-6011B97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978-7EE7-4014-BFB7-B9C1B4A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73880-DA64-4186-BA0C-4033588FA5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