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65048"/>
        <c:axId val="7639998"/>
      </c:barChart>
      <c:catAx>
        <c:axId val="37265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9998"/>
        <c:crosses val="autoZero"/>
        <c:auto val="1"/>
        <c:lblAlgn val="ctr"/>
        <c:lblOffset val="100"/>
        <c:noMultiLvlLbl val="0"/>
      </c:catAx>
      <c:valAx>
        <c:axId val="7639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65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512-9D64-49D4-A568-80FEA43B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C23-ACBA-4753-A64B-5F39E7DC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6F6-17EB-462E-B3B2-7B6F8FFE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060-DFAC-4CF2-8E4E-C49DB59E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01D-25E3-438C-AB09-F88247C3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427-EADA-4359-8F94-723A5CA4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DBC-DB84-43EB-A37B-5E0B9ED7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DCD-7611-4915-AF45-9425CABC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62E-18AC-4909-A8A5-A547A444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333-FC68-445C-8179-B3DE411F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809-CBC8-474B-B3E2-4EB0CAEB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047-C682-401F-9726-20B9B0A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49722-5DB3-4F7B-A14E-8EF45BE744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