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64355"/>
        <c:axId val="18964503"/>
      </c:barChart>
      <c:catAx>
        <c:axId val="27864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4503"/>
        <c:crosses val="autoZero"/>
        <c:auto val="1"/>
        <c:lblAlgn val="ctr"/>
        <c:lblOffset val="100"/>
        <c:noMultiLvlLbl val="0"/>
      </c:catAx>
      <c:valAx>
        <c:axId val="18964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64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10F6-D33E-4775-AC12-7AD9FB23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E1B-00D8-4ABC-8FA7-836B0E4F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AD2-FB16-449C-BBF4-6FCD2FDF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10F-3F34-4C3A-98F9-1062DCCD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99D-09A9-4472-B034-AE7F01C5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D31-2421-4166-B2BE-B8DD3627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A70-7EC2-4C19-A369-C4AD433A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9F1-95E3-46D9-81E5-BBAA5482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F73-67FF-4B70-B2A9-26C100F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198D-F1F8-485E-BF00-8EDDBD6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C20-AE13-4BD3-BED2-6F41328B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2E2-7438-44D3-9D72-60D2C8B8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7A397-6A54-4BB0-83B4-6D3340C19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