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59371"/>
        <c:axId val="16663078"/>
      </c:barChart>
      <c:catAx>
        <c:axId val="57459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63078"/>
        <c:crosses val="autoZero"/>
        <c:auto val="1"/>
        <c:lblAlgn val="ctr"/>
        <c:lblOffset val="100"/>
        <c:noMultiLvlLbl val="0"/>
      </c:catAx>
      <c:valAx>
        <c:axId val="16663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59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2CF-C7A1-4081-94DE-DB2BE07A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CB3-6DD2-40FB-AC5E-AADD1226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763-347C-4F66-81A2-05D6ECA9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FB2-56E1-47F4-8BA9-B8876F5C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208E-2435-43BC-A36D-C8D89FB8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FBF-20BA-4C29-8149-AFE4C275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689-DE9A-4CC2-B5ED-0BB3CC13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7DB-171E-4B03-B1EF-412197A6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1DD-FE03-4BE0-8319-303C2B65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58E-FD85-4A98-A01D-D301C64F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A6D-6186-47FC-A1DB-6D42F130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4D5-861F-428B-AFB7-350F02D5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8D0E3-40C2-4EB4-BE89-0182FAA0C9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