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64600"/>
        <c:axId val="99288793"/>
      </c:barChart>
      <c:catAx>
        <c:axId val="95664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88793"/>
        <c:crosses val="autoZero"/>
        <c:auto val="1"/>
        <c:lblAlgn val="ctr"/>
        <c:lblOffset val="100"/>
        <c:noMultiLvlLbl val="0"/>
      </c:catAx>
      <c:valAx>
        <c:axId val="99288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64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CE2D-0FF2-4991-9DB0-05C07E32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93D3-34B1-4509-935C-0E9CDF12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256-46F0-49B1-B76B-1125EE72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6E7-058E-4688-9EDA-8A3D33C7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8F8B-2E61-4ACB-90B8-9C75C731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6BA4-0F1C-435F-8891-AFFF0CFC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EAA1-F5AE-4647-AE81-7CD1D675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7F53-504F-4FED-B895-A0C65315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BDD7-D9A6-446F-A1AC-A1080851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FA0-01A5-48A9-94AC-72466F3E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9684-060F-4F18-9A1D-ABD0ED85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4093-7AA2-45B9-8F6F-2813E330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F774C-012C-4F34-B6BF-6FE72534F8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